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E94-3024-4F9C-895C-99490F81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FD6-F5BD-43A3-85FD-CD2A61A1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A93-B376-49E0-B601-8B8D328C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119-6794-429E-9A61-82071973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E4F-D651-456B-A887-C563F750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576-D1A1-46E7-9059-9B8539AF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BD3-D037-410F-A9DD-D3ABEBF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DCA-51AD-41C8-8F6A-0E789B4C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673-B96D-46CA-B95A-3FC3981A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023-1D86-4EBF-BAD4-00AF19F6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1F2-6125-45BD-8A6F-3A9CB12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268-CC77-431D-BD73-F84A7C2A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B266-71FE-478B-A2F7-C0741590D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 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zı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228600"/>
            <a:ext cx="777240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83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911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977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0432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8104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8608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27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7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7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7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7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47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0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0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0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124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8864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8396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8396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8396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8396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8396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807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807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807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54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Liberal yaklaşımlar; m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a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 ve hizmetlerin serbestleşmesi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ve uluslararası entegrasyon,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knolojik gelişmeler, ulaşt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 hizmetlerindeki gelişme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usal ekonomilerden uluslararas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ı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ekonomik ilişkiler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AlparslanM</cp:lastModifiedBy>
  <cp:lastPrinted>2004-03-08T12:25:15Z</cp:lastPrinted>
  <dcterms:modified xsi:type="dcterms:W3CDTF">2004-05-10T08:50:56Z</dcterms:modified>
  <cp:revision>330</cp:revision>
  <dc:subject/>
  <dc:title>No Slide Title</dc:title>
</cp:coreProperties>
</file>